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6CC-C225-43BB-8159-32504D69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79B-2D4B-43A3-9A3C-064AE982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F09-BD9E-4534-96F3-DCE6FAE0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C12-E907-42D2-B4CE-0B5BFAA6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B84-0BB6-4513-A372-FD59866D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123-B77A-4889-A3C4-6FECE847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7A8-9A4E-48D0-B16F-FC12EC7E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050-2FDB-467C-AF8F-693463DF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4CD-3402-4A16-A517-7F651011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E86-33E1-494C-AA78-BE625785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E90-75AE-49A5-8F91-C9143DC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8A4-1F7E-443F-849E-838AA5C9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AF12-1F70-46F3-8508-523BCA08A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Todd\Desktop\AYC\final\the bloo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3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6635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171360" y="2077920"/>
            <a:ext cx="8869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3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6635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2"/>
          <a:stretch/>
        </p:blipFill>
        <p:spPr>
          <a:xfrm>
            <a:off x="208080" y="2077920"/>
            <a:ext cx="877068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3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66356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4" descr=""/>
          <p:cNvPicPr/>
          <p:nvPr/>
        </p:nvPicPr>
        <p:blipFill>
          <a:blip r:embed="rId2"/>
          <a:stretch/>
        </p:blipFill>
        <p:spPr>
          <a:xfrm>
            <a:off x="208080" y="2077920"/>
            <a:ext cx="876456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3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6635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4" descr=""/>
          <p:cNvPicPr/>
          <p:nvPr/>
        </p:nvPicPr>
        <p:blipFill>
          <a:blip r:embed="rId2"/>
          <a:stretch/>
        </p:blipFill>
        <p:spPr>
          <a:xfrm>
            <a:off x="208080" y="2077920"/>
            <a:ext cx="871056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Todd\Desktop\AYC\final\victory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3" descr=""/>
          <p:cNvPicPr/>
          <p:nvPr/>
        </p:nvPicPr>
        <p:blipFill>
          <a:blip r:embed="rId1"/>
          <a:stretch/>
        </p:blipFill>
        <p:spPr>
          <a:xfrm>
            <a:off x="146160" y="-139680"/>
            <a:ext cx="8924760" cy="166356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4" descr=""/>
          <p:cNvPicPr/>
          <p:nvPr/>
        </p:nvPicPr>
        <p:blipFill>
          <a:blip r:embed="rId2"/>
          <a:stretch/>
        </p:blipFill>
        <p:spPr>
          <a:xfrm>
            <a:off x="208080" y="2077920"/>
            <a:ext cx="879624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 3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663560"/>
          </a:xfrm>
          <a:prstGeom prst="rect">
            <a:avLst/>
          </a:prstGeom>
          <a:ln w="0">
            <a:noFill/>
          </a:ln>
        </p:spPr>
      </p:pic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231840" y="1481040"/>
            <a:ext cx="879624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Todd\Desktop\AYC\final\voic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tle 3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66356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208080" y="2077920"/>
            <a:ext cx="848520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Todd\Desktop\AYC\final\violenc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3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66356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4" descr=""/>
          <p:cNvPicPr/>
          <p:nvPr/>
        </p:nvPicPr>
        <p:blipFill>
          <a:blip r:embed="rId2"/>
          <a:stretch/>
        </p:blipFill>
        <p:spPr>
          <a:xfrm>
            <a:off x="208080" y="2077920"/>
            <a:ext cx="86119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Todd\Desktop\AYC\final\valu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3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6635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4" descr=""/>
          <p:cNvPicPr/>
          <p:nvPr/>
        </p:nvPicPr>
        <p:blipFill>
          <a:blip r:embed="rId2"/>
          <a:stretch/>
        </p:blipFill>
        <p:spPr>
          <a:xfrm>
            <a:off x="208080" y="2077920"/>
            <a:ext cx="874080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3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4" descr=""/>
          <p:cNvPicPr/>
          <p:nvPr/>
        </p:nvPicPr>
        <p:blipFill>
          <a:blip r:embed="rId2"/>
          <a:stretch/>
        </p:blipFill>
        <p:spPr>
          <a:xfrm>
            <a:off x="171360" y="2054160"/>
            <a:ext cx="85219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15:34Z</dcterms:created>
  <dc:creator>Todd</dc:creator>
  <dc:description/>
  <dc:language>en-US</dc:language>
  <cp:lastModifiedBy>Todd</cp:lastModifiedBy>
  <dcterms:modified xsi:type="dcterms:W3CDTF">2009-04-17T14:15:34Z</dcterms:modified>
  <cp:revision>14</cp:revision>
  <dc:subject/>
  <dc:title>Genesis 4:9-10</dc:title>
</cp:coreProperties>
</file>